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5C6F-524B-43FA-81AC-0F5BFA1F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F9B4-210A-4F19-A889-47D44356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E998-F1A4-4FBD-8376-5F125C9D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3F25-C23E-4D95-A47D-1E456BBF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353A-5A56-44C7-90D1-18493FDD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570-8A81-4093-A1E9-DBCBA2A9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96B7-6CE6-4156-84F5-CDADAF18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B31E-E7B7-42EE-AC94-1F5C0F37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563F-3764-4C2C-B65D-8536AEC7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7CCA-0520-4FB8-81D9-8FCB06EF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E846-3310-43F8-A6CB-FE1200F7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DE95-AA75-4C89-966A-91303202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BB55-C110-4997-AF0E-F9CC5806A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Automatización y Robótica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2do parcial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actividades PLC Rslogix 50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898989"/>
                </a:solidFill>
                <a:latin typeface="Calibri"/>
              </a:rPr>
              <a:t>Profesor: Juan José Gloria P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898989"/>
                </a:solidFill>
                <a:latin typeface="Calibri"/>
              </a:rPr>
              <a:t>Alumno__________________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898989"/>
                </a:solidFill>
                <a:latin typeface="Calibri"/>
              </a:rPr>
              <a:t>Matricula: ________________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898989"/>
                </a:solidFill>
                <a:latin typeface="Calibri"/>
              </a:rPr>
              <a:t>Grupo  _______________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ntradas-salid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5 Marcador de contenido" descr="images.jpg"/>
          <p:cNvPicPr/>
          <p:nvPr/>
        </p:nvPicPr>
        <p:blipFill>
          <a:blip r:embed="rId1"/>
          <a:stretch/>
        </p:blipFill>
        <p:spPr>
          <a:xfrm>
            <a:off x="5715000" y="29098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2"/>
          <a:srcRect l="0" t="19158" r="44107" b="10089"/>
          <a:stretch/>
        </p:blipFill>
        <p:spPr>
          <a:xfrm>
            <a:off x="285840" y="1606680"/>
            <a:ext cx="407196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ack, slot y modul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4 Marcador de contenido" descr="1308255700_216553541_1-Rack-4slots-Con-Fuente-P1-Para-Slc-500-Allen-Bradley-Plc-0.jpg"/>
          <p:cNvPicPr/>
          <p:nvPr/>
        </p:nvPicPr>
        <p:blipFill>
          <a:blip r:embed="rId1"/>
          <a:stretch/>
        </p:blipFill>
        <p:spPr>
          <a:xfrm>
            <a:off x="1143000" y="252900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68" name="5 Marcador de contenido" descr="20111207074714489_L.JPG"/>
          <p:cNvPicPr/>
          <p:nvPr/>
        </p:nvPicPr>
        <p:blipFill>
          <a:blip r:embed="rId2"/>
          <a:stretch/>
        </p:blipFill>
        <p:spPr>
          <a:xfrm>
            <a:off x="5397480" y="2909880"/>
            <a:ext cx="2540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ort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rcRect l="0" t="18312" r="0" b="7505"/>
          <a:stretch/>
        </p:blipFill>
        <p:spPr>
          <a:xfrm>
            <a:off x="1554120" y="2428920"/>
            <a:ext cx="6035760" cy="3357360"/>
          </a:xfrm>
          <a:prstGeom prst="rect">
            <a:avLst/>
          </a:prstGeom>
          <a:ln w="0">
            <a:noFill/>
          </a:ln>
        </p:spPr>
      </p:pic>
      <p:sp>
        <p:nvSpPr>
          <p:cNvPr id="71" name="3 CuadroTexto"/>
          <p:cNvSpPr/>
          <p:nvPr/>
        </p:nvSpPr>
        <p:spPr>
          <a:xfrm>
            <a:off x="1214280" y="1357200"/>
            <a:ext cx="62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scripción li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ntradas door simulad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57200" y="1600200"/>
          <a:ext cx="8229600" cy="2595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r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ímb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:1/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sh bo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otón N.O. para abr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Salida  door simulad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2595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r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ímb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:1/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onexión eléctr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rcRect l="2945" t="30285" r="92489" b="17047"/>
          <a:stretch/>
        </p:blipFill>
        <p:spPr>
          <a:xfrm>
            <a:off x="1571760" y="2000160"/>
            <a:ext cx="890280" cy="4000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rcRect l="10811" t="29685" r="86229" b="16924"/>
          <a:stretch/>
        </p:blipFill>
        <p:spPr>
          <a:xfrm>
            <a:off x="5643720" y="1928880"/>
            <a:ext cx="312480" cy="4214880"/>
          </a:xfrm>
          <a:prstGeom prst="rect">
            <a:avLst/>
          </a:prstGeom>
          <a:ln w="0">
            <a:noFill/>
          </a:ln>
        </p:spPr>
      </p:pic>
      <p:sp>
        <p:nvSpPr>
          <p:cNvPr id="79" name="7 CuadroTexto"/>
          <p:cNvSpPr/>
          <p:nvPr/>
        </p:nvSpPr>
        <p:spPr>
          <a:xfrm>
            <a:off x="857160" y="1428840"/>
            <a:ext cx="25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tr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8 CuadroTexto"/>
          <p:cNvSpPr/>
          <p:nvPr/>
        </p:nvSpPr>
        <p:spPr>
          <a:xfrm>
            <a:off x="4714920" y="1428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lid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Automatización del 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berá subir y bajar  en forma automát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ntar con protecciones del mot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Deberá utilizar las luces piloto del pan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Grafce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Automatiz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Colocar la programación en escaler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Batch simulado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rcRect l="0" t="24626" r="32244" b="13819"/>
          <a:stretch/>
        </p:blipFill>
        <p:spPr>
          <a:xfrm>
            <a:off x="820800" y="1496880"/>
            <a:ext cx="660888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l ambiente del PLC AB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Menú princip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Entradas –salid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Automatización Corti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Actividad 1 Entras y salid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Actividad 2 de automatizaci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Calibri"/>
              </a:rPr>
              <a:t>Simulador de llenado bat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Actividad 3 Entras y salida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alibri"/>
              </a:rPr>
              <a:t>Actividad 4 automatizació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ntradas door simulad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600200"/>
          <a:ext cx="8229600" cy="1482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r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ímb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entar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:1/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salida batch simulad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1600200"/>
          <a:ext cx="8229600" cy="14828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rec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ímbo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entari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:2/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Automatiz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lenar y vaci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lenar, contar con un un timer y después vaci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lenar, contar con un un timer, y después vaciar.(hacer cinco cicl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Grafce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automatizac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ubr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71680" y="1357200"/>
          <a:ext cx="8229600" cy="5359680"/>
        </p:xfrm>
        <a:graphic>
          <a:graphicData uri="http://schemas.openxmlformats.org/drawingml/2006/table">
            <a:tbl>
              <a:tblPr/>
              <a:tblGrid>
                <a:gridCol w="1357200"/>
                <a:gridCol w="4143240"/>
                <a:gridCol w="1500120"/>
                <a:gridCol w="12290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yec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ntos a evalu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nder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ti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ad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portada sugerida, o equivalente  (nombre de la institución, carrera , materia , turno , grupo , fecha parcial , nombre de profesor , nombre del alumno , matricula ,fecha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ción del proces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iene diagramas , imágenes o diagramas  o planos del proces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 una descripción literal de proces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trad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la entradas y salidas en forma ordenada,  símbolo, descripción , direcció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alida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la entradas y salidas en forma ordenada,  símbolo, descripción , direcció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afcet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el grafcet con errores de transición y acciones. Sin comentarios  (rechazo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el grafcet con errores de transición y acciones. Sin comentarios  15%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el grafcet con de transición y acciones, comentarios  sin errores 3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ción de la programación en escalera 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 la programación con errores de lógica, sin direcciones. Rechaz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la programación sin errores de Lógica, pero sin simbología de contacto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la programación sin errores  y con la simbología direccionamiento 40%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Rubric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571680" y="1357200"/>
          <a:ext cx="8229600" cy="4907160"/>
        </p:xfrm>
        <a:graphic>
          <a:graphicData uri="http://schemas.openxmlformats.org/drawingml/2006/table">
            <a:tbl>
              <a:tblPr/>
              <a:tblGrid>
                <a:gridCol w="1357200"/>
                <a:gridCol w="3786120"/>
                <a:gridCol w="1428840"/>
                <a:gridCol w="165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yec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ntos a evalu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nderació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zclado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Entra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la entradas y salidas en forma ordenada,  símbolo, descripción , direcc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Salida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la entradas y salidas en forma ordenada,  símbolo, descripción , direcció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7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Grafce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el grafcet con errores de transición y acciones. Sin comentarios  (rechazo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el grafcet con errores de transición y acciones. Sin comentarios  15%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el grafcet con de transición y acciones, comentarios  sin errores 3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Presentación de la programación en escalera 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 la programación con errores de lógica, sin direcciones. Rechaz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la programación sin errores de Lógica, pero sin simbología de contac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senta la programación sin errores  y con la simbología direccionamiento 40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Menú Principal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Menú principal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Calibri"/>
              </a:rPr>
              <a:t>El proyecto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1"/>
          <a:srcRect l="0" t="21467" r="77230" b="7505"/>
          <a:stretch/>
        </p:blipFill>
        <p:spPr>
          <a:xfrm>
            <a:off x="1554120" y="1568520"/>
            <a:ext cx="18036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Proyec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e presentan los da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ntrolad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nfiguracio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Archivo de  opera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(Data fil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Entras saild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Bit binar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ti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rcRect l="0" t="21467" r="77230" b="7505"/>
          <a:stretch/>
        </p:blipFill>
        <p:spPr>
          <a:xfrm>
            <a:off x="1509840" y="1600200"/>
            <a:ext cx="19335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Menú principal de contac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26324" t="8839" r="35795" b="81693"/>
          <a:stretch/>
        </p:blipFill>
        <p:spPr>
          <a:xfrm>
            <a:off x="1143000" y="2786040"/>
            <a:ext cx="68580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ontact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Nuevo rengl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Braz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ntactos NO y 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alidas instantán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Salida lachad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rcRect l="26324" t="8839" r="35795" b="81693"/>
          <a:stretch/>
        </p:blipFill>
        <p:spPr>
          <a:xfrm>
            <a:off x="628560" y="3516480"/>
            <a:ext cx="3695760" cy="69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Cargar, descargar y monitorea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Ir fuera de líne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Ir a on line (en líne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Descargar (mandar al PLC el programa)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0" t="0" r="77717" b="71412"/>
          <a:stretch/>
        </p:blipFill>
        <p:spPr>
          <a:xfrm>
            <a:off x="457200" y="2347920"/>
            <a:ext cx="29797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Poner en Run el simulad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alibri"/>
              </a:rPr>
              <a:t>Colocar en ru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rcRect l="0" t="0" r="37032" b="78489"/>
          <a:stretch/>
        </p:blipFill>
        <p:spPr>
          <a:xfrm>
            <a:off x="357120" y="2357280"/>
            <a:ext cx="449424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9:20:11Z</dcterms:created>
  <dc:creator>cnc</dc:creator>
  <dc:description/>
  <dc:language>en-US</dc:language>
  <cp:lastModifiedBy>maestro</cp:lastModifiedBy>
  <dcterms:modified xsi:type="dcterms:W3CDTF">2016-02-25T17:56:35Z</dcterms:modified>
  <cp:revision>23</cp:revision>
  <dc:subject/>
  <dc:title>Autommatia</dc:title>
</cp:coreProperties>
</file>